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372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0AE7-1558-4E12-888E-4FE703221FCF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c8c8c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494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b7a5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agazines and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Little Talk about Eth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38088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Popular Magazine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 generally widely available in a variety of stor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ve a relatively high number of eye-catching advertisemen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ten aimed at a particular market (car buffs, teenagers, and so on), but not too particula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ve many photos and illustr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Scholarly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ve very few (and very plain) advertisemen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imed to a very specific audience, generally members of the organiz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ve heavily researched articles with documentation and bibliograph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ailable by subscription upon joining a professional organiz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erees who help approve publication of articl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Weigh Your Decision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8640" y="1981080"/>
            <a:ext cx="3675240" cy="4059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 need to decide what sort of ethos you project when you use either scholarly journals, popular magazines, or some combinatio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LA Citation for Magazine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2209680"/>
            <a:ext cx="4630680" cy="1473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 see section 4.7.6 of the MLA Handboo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LA Citation for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16280" y="2057400"/>
            <a:ext cx="5259240" cy="1778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 see section 4.7.1-2 of the MLA Handboo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#1: journal w/ continuous pagin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#2: each issue begins w/ page 1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5:35:41Z</dcterms:created>
  <dc:creator>Bill Bolin</dc:creator>
  <dc:description/>
  <dc:language>en-US</dc:language>
  <cp:lastModifiedBy>Bill Bolin</cp:lastModifiedBy>
  <dcterms:modified xsi:type="dcterms:W3CDTF">2003-09-02T15:36:57Z</dcterms:modified>
  <cp:revision>1</cp:revision>
  <dc:subject/>
  <dc:title>Magazines and Journals</dc:title>
</cp:coreProperties>
</file>